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19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dt" idx="37"/>
          </p:nvPr>
        </p:nvSpPr>
        <p:spPr>
          <a:xfrm>
            <a:off x="3846240" y="-36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942948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46240" y="942948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71AF3-B01C-48F4-8180-3F2921841056}" type="slidenum">
              <a:rPr b="0" lang="cs-CZ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46600" y="9429840"/>
            <a:ext cx="2948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F458C-F80B-4DF5-9FC2-33B3D26C9872}" type="slidenum">
              <a:rPr b="0" lang="cs-CZ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Zástupný symbol pro číslo snímku 3"/>
          <p:cNvSpPr/>
          <p:nvPr/>
        </p:nvSpPr>
        <p:spPr>
          <a:xfrm>
            <a:off x="3846600" y="9429840"/>
            <a:ext cx="2948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BA093-1E40-457A-93A3-14677DC3D2F5}" type="slidenum">
              <a:rPr b="0" lang="cs-CZ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AF1-55C3-4142-A4DA-F72B65A3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8C0-B551-4D1F-A7D0-EC2F10CB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4A248-085A-41DB-9056-4B57F611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31E26-411E-4D6D-8214-AEA5C326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75FB7-2FB9-45AD-80E0-FE2DEC00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C2456-D9E0-4125-8FF7-17B9CD5F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CBC46-0382-4BCB-8361-8C98DC01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89914-A0D0-46F3-92CF-BD7CF549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013A8-96CF-4B11-8660-DE8D9508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A63D8-C0D7-4CE8-BE20-FDF61467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77D28-F429-4F9A-880C-5878C0B7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AB39D-C64E-40BA-AD30-E3F216E0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88C-305A-4812-ACED-75B2CE3B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DF3A4-4F1F-4462-B4A6-F1D796B4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2E224-7516-4452-B3BD-F86DCAD9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56661-5B2F-45D6-91A3-070197F7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9B094-9F96-4299-93E3-4D329D63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D8911-9C4E-41D5-AA97-A62B7B50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359AC-B123-4CE0-9A3E-956B4193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B4B7D-0918-4169-887C-23ECDA37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F9499-DB45-4F61-9405-7E0E1BF7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D8ADD-2B52-4FA4-BEE7-1F2E32C6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D6B66-534D-4F46-82AB-EC9891D7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9BF-7950-4D60-97B9-2AB45B82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E68B7-AD4E-48BE-B0A1-4C01AC22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1F3AE-83A6-4D2B-B328-E19B2062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40F09-0546-460F-9466-6F892880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28AEC-AE6D-4918-8A31-7E921F8A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E1E38-9B2F-4FE3-90BB-499510BB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44971-2574-48A9-837B-62E25360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C3A26-E47B-4C2E-B537-7A0C09DE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C5B76-D40E-4AE0-AF70-E4567A66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A83A2-1E1B-4E74-BB10-C883E5F5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15CC3-F3A5-4259-9CDF-F154C3D1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CC08-A152-4FD6-AD23-4189412B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A7537-1672-4C79-854F-2FFE36D3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086C3-2BB8-4E35-88E9-83A128EF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79550-F2E9-4815-A604-1A8003BA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31F8E-C8D3-4FF6-A49C-4E9E7C8A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E9F28-4D00-4D10-911E-6F4FF717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6F656-8056-4D01-A4B5-391C672F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C5FD3-22CB-4B91-BCF1-7E503AD9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622EA-AF54-4872-B73A-785BC392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B6DF0-B66A-4526-BC1B-BCFB09E1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37027-3A78-4000-A667-4C099286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0C15-FB18-4AF6-81F9-EA715AA1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0EA32-0137-4A9E-93AB-85D5F60E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51312-DADA-425A-9DED-C36D36CD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34C70-E561-45B8-AA05-6534A973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5FC79-F5B2-4F9E-9E21-73C74BF4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C5635-2DE2-41B9-B000-FBB4EF73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FAA8-A9F2-4246-BC67-D88ED886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AF92-A8F4-44B9-A6E8-17ABC7B3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F2CC-AE70-45BF-8EDE-A4175507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6D4C-1120-4548-B25E-275C378E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4BA3-7120-4897-9F8C-9320EB33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946-DE68-4618-A271-C163F752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1E3F-E8D9-41D2-814A-36665813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765A-7748-4899-AD8F-44EAF1ED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B9E5-BDC0-4306-8F01-085DCBE7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23DD-44BA-4330-80CB-2AB44CC7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2E53-2317-4870-850C-DDFB4E8E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308B-1E82-4D71-861B-ED1D6364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99F9D-F738-4C22-A8B2-98513141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CF71-8651-41B2-B7D4-5C87EC60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49841-AFDA-477C-BA28-54EAA626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9A69-5FEE-485F-8F53-7088DC5B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ABF-8D03-47A6-859B-2F2D065F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4061A-BAAF-4A55-9E1F-A7F25275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F842-3564-4D48-80F8-6B6B4870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16F95-5167-490E-94DB-0C9CFC09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1D05-40C7-4262-9464-1E7355CB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2219B-61EB-46F3-9B9B-7520B012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DF745-9549-4642-BE06-F581C9A9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99A7E-BB09-4C04-A857-08209005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01C07-8FD5-4B40-98F9-8D4D4B56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0CC40-C63F-41FA-80BB-B765E6BB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73261-A2E7-4E5E-8654-5162C52B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E2E-DA8B-4C36-9F45-097598A9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CE827-8362-448F-9029-35EA343B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46E2-F8EC-465F-A9A9-DF2D7636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C9BC4-A554-4121-8697-366DA1CB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0DE59-EB1E-421A-B3D4-2D1918B5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7363C-7BC7-4589-9C25-FBFB116B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8F8E8-833C-45E8-BE41-2BCAB38E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CBC7C-6F97-4021-868F-0490C243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F2CAA-545F-4B36-9307-9B0F5652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8B4FF-00DE-4A41-8702-CBD04450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70F5E-E10A-48FC-BB2F-E8C4CA0C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BB6-7FF9-4EF0-9338-8CF8DBB2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1E757-C53D-4482-86B5-E3A98B86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8DD30-3B62-42CF-8906-C0BB2110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901F4-06F9-4E68-9794-62E8D2CE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0EC08-64F3-469D-8CF1-21A54CB1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B0B6A-3619-4349-9511-613188FD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520F6-5B24-475A-9989-9D52268B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A5CAC-B883-4613-B7CE-DC3B97F7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19AC7-6AA3-4821-8EA4-1A5EE05E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115D2-7DA5-4B6D-B6A4-BFC2050E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B09F1-2BCE-446D-8D10-DAE768F7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399-4D4C-4547-B9C3-E583DB96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78B45-9308-41A1-8E36-95FACFCC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6D117-1E6B-4E75-A265-8828F07F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7EBAB-38E8-41FC-B25B-73498026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BF655-8A23-40D8-9FB3-E47E601A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D3054-27A9-40A3-8A69-39CB715E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2FF00-452C-4BB3-8460-FF4CFA70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944A9-1CD2-4A26-96CC-EAC830D6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D5538-2CC7-4176-A3D1-CC549A5E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90533-684F-4DD6-885C-B1906AE5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3B2FE-2CDF-4014-BDFF-3A79D860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CB7-93E2-41FF-88A1-DD6B395E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8BF72-6BEB-4BCB-8D04-EA7B40F0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C315E-6487-44FF-A333-45DC6295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1A12C-46D0-41F8-8CA2-F73FC87E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8CBC6-D054-47A3-B179-D428A696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06A91-ACC6-4050-A607-42C7E362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556A0-7392-411B-81E3-93C48D8C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BCC5C-B041-44D0-9810-9F2026B2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EDCB2-50B7-4839-8627-F961AAC6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62830-4EDF-4874-B4A7-19CD8447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FCA70-3FEE-4538-9CF6-873F11E4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79F0-CE2A-44AC-9427-7D6F0835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3BB45-D2F9-4429-B4BC-5104ADD2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32BF9-1BB5-4EF5-B5F6-5ACF0265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4EB62-7920-48E7-B92F-C71E9B19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B8B05-55FC-4FE1-B4A5-56B4C7D0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B8606-6437-440A-9A1A-72A18D77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97D8A-C0ED-4C90-99B0-5A0CC5C2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DEA21-BFDA-408B-8BA8-7044A6CB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A69F2-6B3F-4F93-A3C5-AA721896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2832C-DCA7-40F6-8BA7-D0424B73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B8C7A-77E1-488A-A3FE-62C9FDE8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71A-437E-41A5-8117-3D6DE649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413BD-1275-4F25-A35F-78A3839D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078BC-D8FA-41A0-A033-6418E420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1D6DA-32A7-4D63-A4DA-F1A76404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0F6BB-849F-432F-A795-CD8588D4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369B9-1FDD-40BE-9784-04463D92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D0B0E-ECE9-4372-941E-1324B00F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A8DC9-0AAF-430B-AE04-F3CA8B28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6BE7C-45A8-426C-AA68-2CD8E037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6DA35-85B4-4764-A94D-020EDAB4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0A461-E59A-4557-B38E-9F191464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359F1B-6D47-4868-A800-298459690AA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7231D8-222C-440D-BB80-1D46214A72D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E34408-AEC4-4ED0-B1CC-A80976D1E03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50B0D5-4739-4F2E-B0E6-EBEF46448D2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775B38-35F0-4EEC-942D-CB9E08919D4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D680B1-DEDF-48B7-AE97-BF4D7C3FD1F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DD4465-5373-469B-B285-8AA397F4E06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2C0FAD-3CE8-4183-BA8E-5B3C035EEEF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B78170-5353-4DAE-95C7-C81E991CEBC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CD10C4-D8AB-493B-89B7-73DA5437F7A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3ECCC6-A527-41F9-ABFC-89BFD5F1BB9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A263DD-FBC3-408A-8ABF-3C843890BB2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3DFAEB-1A23-4FAA-BE9C-54965830C92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ovéPole 1"/>
          <p:cNvSpPr/>
          <p:nvPr/>
        </p:nvSpPr>
        <p:spPr>
          <a:xfrm>
            <a:off x="287280" y="140328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DejaVu Sans"/>
              </a:rPr>
              <a:t>Návrh novely zákoníku práce předložený vlád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ovéPole 2"/>
          <p:cNvSpPr/>
          <p:nvPr/>
        </p:nvSpPr>
        <p:spPr>
          <a:xfrm>
            <a:off x="216000" y="4932360"/>
            <a:ext cx="964872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Svaz průmyslu a dopravy Č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souhlasil s návrhem novely zákoníku prá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anovisko ze dne 31. března 201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Doporučení k předloženým </a:t>
            </a:r>
            <a:br>
              <a:rPr sz="4400"/>
            </a:b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variantním návrhům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03280" y="2195640"/>
            <a:ext cx="9067680" cy="45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racovní poměr na dobu určito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Calibri"/>
              </a:rPr>
              <a:t>Navrženy dvě Varianty – nesouhla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Calibri"/>
              </a:rPr>
              <a:t>Požadujeme zachování současné právní úpravy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Calibri"/>
              </a:rPr>
              <a:t>Obě Varianty jsou v rozporu s požadavkem na větší flexibilitu pracovněprávních vztahů, proti požadavkům praxe, zejména Varianta I. s 15-letým obdobím pro započítávání řetězení není života schopná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TextovéPole 4"/>
          <p:cNvSpPr/>
          <p:nvPr/>
        </p:nvSpPr>
        <p:spPr>
          <a:xfrm>
            <a:off x="4788000" y="6948360"/>
            <a:ext cx="50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8324E1-8493-452A-A1A4-04DC76DD9FD1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Doporučení k předloženým </a:t>
            </a:r>
            <a:br>
              <a:rPr sz="4400"/>
            </a:b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variantním návrhům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503280" y="2195640"/>
            <a:ext cx="9067680" cy="45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Nad rámec návrhu novely požadujeme řeši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Calibri"/>
              </a:rPr>
              <a:t>Konto pracovní doby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dlouhodobý požadavek zejména automobilového průmyslu, proto pokračovat na věcném řešení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Calibri"/>
              </a:rPr>
              <a:t>Kurzarbei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Calibri"/>
              </a:rPr>
              <a:t> – společný požadavek s odbory, vrátit se k návrhům  z loňského roku, které byly připraveny VÚPSV, podklady dodány od zaměstnavatelů i odborů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TextovéPole 4"/>
          <p:cNvSpPr/>
          <p:nvPr/>
        </p:nvSpPr>
        <p:spPr>
          <a:xfrm>
            <a:off x="4824360" y="7020000"/>
            <a:ext cx="432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27B3E2-BFFA-49E7-B7CD-50511F13ECA2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Obdélník 1"/>
          <p:cNvSpPr/>
          <p:nvPr/>
        </p:nvSpPr>
        <p:spPr>
          <a:xfrm>
            <a:off x="611280" y="3708360"/>
            <a:ext cx="8858160" cy="2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Děkuji za pozorno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Obrázek 5" descr="sp_n.png"/>
          <p:cNvPicPr/>
          <p:nvPr/>
        </p:nvPicPr>
        <p:blipFill>
          <a:blip r:embed="rId1"/>
          <a:srcRect l="6650" t="0" r="0" b="19644"/>
          <a:stretch/>
        </p:blipFill>
        <p:spPr>
          <a:xfrm>
            <a:off x="3468600" y="1351080"/>
            <a:ext cx="3006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333333"/>
                </a:solidFill>
                <a:uFillTx/>
                <a:latin typeface="Calibri"/>
                <a:ea typeface="Calibri"/>
              </a:rPr>
              <a:t>SP ČR k návrhu novely zákoníku práce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506520" y="1765080"/>
            <a:ext cx="9067680" cy="40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ávrh novely zákoníku práce obsahuje řadu úprav, které jsme dlouhodobě požadovali a které rovněž vycházely i z tzv. RIA provedené v prosinci loňského roku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čet základních institutů, které byly členskou základnou dlouhodobě požadovány, jsou v návrhu obsaženy (popřípadě jejich řešení nebylo uzavřeno)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TextovéPole 5"/>
          <p:cNvSpPr/>
          <p:nvPr/>
        </p:nvSpPr>
        <p:spPr>
          <a:xfrm>
            <a:off x="4896000" y="6948360"/>
            <a:ext cx="288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940AE3-B3CF-402C-9ECC-CDBDF1BFA46C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Úpravy požadované zaměstnavateli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4240" indent="-53496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novuzavedení institutu dočasného přiděle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aměstnance – souhla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53496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loužení zkušební dob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o vedoucí zaměstnance na 6 měsíců (ústup od kategorie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zv. klíčových zaměstnanců) – souhlas.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53496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acovněprávn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pecifika vedoucích zaměstnanc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 úpravy ve mzdách (maximální rozsah přesčasové práce) – souhlas.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5349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53496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TextovéPole 5"/>
          <p:cNvSpPr/>
          <p:nvPr/>
        </p:nvSpPr>
        <p:spPr>
          <a:xfrm>
            <a:off x="4896000" y="7020000"/>
            <a:ext cx="288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6F77EA-A2ED-4FE3-AB27-B8F398B0D909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Úpravy požadované zaměstnavateli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4240" indent="-7142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Zjednodušení výpovědních důvodů při výpovědi ze strany zaměstnavatele -  bylo z původního návrhu novely vypuštěno, akceptace.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Nový výpovědní důvod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, který zohledňuje neopodstatněné ekonomické zatížení zaměstnavatelů v souvislosti se zneužíváním poskytování náhrady mzdy v době nemoci zaměstnance – souhlas.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Snížení minimální výše odstupného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ve vazbě na dobu trvání pracovního poměru – souhlas.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TextovéPole 5"/>
          <p:cNvSpPr/>
          <p:nvPr/>
        </p:nvSpPr>
        <p:spPr>
          <a:xfrm>
            <a:off x="4896000" y="7020000"/>
            <a:ext cx="288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EA1D68-7B81-4C04-9F87-5274147C2E41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Úpravy požadované zaměstnavateli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4240" indent="-714240">
              <a:lnSpc>
                <a:spcPct val="104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měny v úpravě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chodu práv a povinnost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 pracovněprávních vztahů – zejména požadavek nadnárodních společností – souhla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Rozšíření možnosti výplaty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zdy v zahraniční měně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souhlas.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zv.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oderační právo soud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umožňující soudu v řízení o neplatnosti skončení pracovního poměru snížit přiměřeně výši náhrady mzdy – souhla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TextovéPole 4"/>
          <p:cNvSpPr/>
          <p:nvPr/>
        </p:nvSpPr>
        <p:spPr>
          <a:xfrm>
            <a:off x="4896000" y="7020000"/>
            <a:ext cx="288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5B41F3-3455-455F-8B9A-5527FDECBBE2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Úpravy požadované zaměstnavateli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03280" y="2195640"/>
            <a:ext cx="9067680" cy="45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23880" indent="-623880">
              <a:lnSpc>
                <a:spcPct val="104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iná překážka v práci na straně zaměstnavatel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možnost snížení náhrady mzdy na 60 % nejen v kolektivní smlouvě, ale i vnitřním předpisem a zrušení rozhodování úřadů práce znamená zjednodušení a odstranění rozdílů mezi zaměstnavateli ve vazbě na působení odborové organizace – souhlas.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23880" indent="-6238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23880" indent="-62388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TextovéPole 4"/>
          <p:cNvSpPr/>
          <p:nvPr/>
        </p:nvSpPr>
        <p:spPr>
          <a:xfrm>
            <a:off x="4861080" y="7020000"/>
            <a:ext cx="3585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9A93B9-4D53-478B-BE72-D4EAE3E02317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Úpravy požadované zaměstnavateli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503280" y="1979640"/>
            <a:ext cx="90676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23880" indent="-6238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loužení doby výkonu práce na základě dohody o provedení prác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e 150 na 300 hodin, které by mělo být „kompenzováno“jejich „zpojistněním“ – zásadně nesouhlas, zmařil by se ekonomický smysl a význam využívání dohod o provedení práce jako jediné flexibilní formy pracovněprávních vztahů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23880" indent="-6238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23880" indent="-6238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23880" indent="-62388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9" name="TextovéPole 4"/>
          <p:cNvSpPr/>
          <p:nvPr/>
        </p:nvSpPr>
        <p:spPr>
          <a:xfrm>
            <a:off x="4896000" y="7020000"/>
            <a:ext cx="288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E592E7-C64E-4F54-8454-1BD5A3B5B54E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Úpravy požadované zaměstnavateli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03280" y="2266920"/>
            <a:ext cx="9067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6400" indent="-536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urenční doložka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zapracován náš požadavek k možnosti odstoupení, souhlas s omezením konkurenční doložky nejdéle na jeden rok při zachování minimální kompenzace poloviny průměrného výdělku za každý měsíc plnění závazku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36400" indent="-5364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36400" indent="-53640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TextovéPole 4"/>
          <p:cNvSpPr/>
          <p:nvPr/>
        </p:nvSpPr>
        <p:spPr>
          <a:xfrm>
            <a:off x="4896000" y="6948360"/>
            <a:ext cx="288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85B334-762E-4128-BA76-7A957BAB56E6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Doporučení k předloženým </a:t>
            </a:r>
            <a:br>
              <a:rPr sz="4400"/>
            </a:b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variantním návrhům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03280" y="2195640"/>
            <a:ext cx="9067680" cy="45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104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eplatnost právních úkonů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vrhujeme  novou Variantu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chování relativní neplatnosti právních úkonů v případě absolutní neplatnosti pro nedostatek formy – viz písemná forma PS, DPČ, DPP i – možnost zhojit, tj. vypustit odst. 2 v § 20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TextovéPole 4"/>
          <p:cNvSpPr/>
          <p:nvPr/>
        </p:nvSpPr>
        <p:spPr>
          <a:xfrm>
            <a:off x="4896000" y="7020000"/>
            <a:ext cx="288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14A678-1E78-4267-8562-7B94F34A3719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2:09:37Z</dcterms:created>
  <dc:creator>Jezkova Petra</dc:creator>
  <dc:description/>
  <dc:language>en-US</dc:language>
  <cp:lastModifiedBy>Jitka Hejdukova</cp:lastModifiedBy>
  <dcterms:modified xsi:type="dcterms:W3CDTF">2011-06-15T16:36:35Z</dcterms:modified>
  <cp:revision>42</cp:revision>
  <dc:subject/>
  <dc:title>Snímek 1</dc:title>
</cp:coreProperties>
</file>