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7405-A8D8-4A8C-8FFC-003530BD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0CB2-807B-46F8-99F9-22BAA35C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5F37-3E06-4907-B967-AF2B81CD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2464-C9C3-4F6B-85EB-817F8B11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1C32-DB96-4999-AFB4-2ADAB4EF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05E-D197-4270-94BB-D4A25F6A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5E3-428F-47EB-A066-38CF29F8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BEC-D596-4AF3-9FF1-93414AD7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B15D-6F5A-4615-B2BE-CFC3E3D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A38C-32DC-4309-9B1A-F709138F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EE6-95E1-448C-B593-42771EA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272-4430-4521-8332-A6B9F07F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B3D2-25AA-42D8-866C-01647027C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73360"/>
            <a:ext cx="9144000" cy="45061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cs-CZ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Důchodová reforma ČMKOS</a:t>
            </a:r>
            <a:br>
              <a:rPr sz="800"/>
            </a:br>
            <a:r>
              <a:rPr b="1" i="1" lang="cs-CZ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Rada hospodářské a sociální dohody</a:t>
            </a:r>
            <a:br>
              <a:rPr sz="32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i="1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Praha,</a:t>
            </a:r>
            <a:r>
              <a:rPr b="0" i="1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i="1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Úřad vlády ČR </a:t>
            </a:r>
            <a:br>
              <a:rPr sz="3200"/>
            </a:br>
            <a:r>
              <a:rPr b="1" lang="cs-CZ" sz="2800" spc="-1" strike="noStrike">
                <a:solidFill>
                  <a:srgbClr val="7fb9dd"/>
                </a:solidFill>
                <a:latin typeface="Arial"/>
                <a:ea typeface="Times New Roman"/>
              </a:rPr>
              <a:t>JUDr. Vít Samek</a:t>
            </a:r>
            <a:br>
              <a:rPr sz="2800"/>
            </a:br>
            <a:r>
              <a:rPr b="1" i="1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13. ledna 2011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4200" y="-1440"/>
            <a:ext cx="82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Strategie celoživotního investování důchodových ús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anguard Life-Cycle Funds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907920"/>
          <a:ext cx="990108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90108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0" y="0"/>
            <a:ext cx="9144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I. pilíř poskytuje přiměřené a finančně udržitelné důchody většině obyva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08360" y="3933720"/>
            <a:ext cx="5291280" cy="946080"/>
          </a:xfrm>
          <a:custGeom>
            <a:avLst/>
            <a:gdLst/>
            <a:ahLst/>
            <a:rect l="l" t="t" r="r" b="b"/>
            <a:pathLst>
              <a:path w="3333" h="596">
                <a:moveTo>
                  <a:pt x="0" y="0"/>
                </a:moveTo>
                <a:cubicBezTo>
                  <a:pt x="238" y="79"/>
                  <a:pt x="476" y="158"/>
                  <a:pt x="725" y="226"/>
                </a:cubicBezTo>
                <a:cubicBezTo>
                  <a:pt x="974" y="294"/>
                  <a:pt x="1210" y="355"/>
                  <a:pt x="1497" y="408"/>
                </a:cubicBezTo>
                <a:cubicBezTo>
                  <a:pt x="1784" y="461"/>
                  <a:pt x="2162" y="514"/>
                  <a:pt x="2449" y="544"/>
                </a:cubicBezTo>
                <a:cubicBezTo>
                  <a:pt x="2736" y="574"/>
                  <a:pt x="3107" y="582"/>
                  <a:pt x="3220" y="589"/>
                </a:cubicBezTo>
                <a:cubicBezTo>
                  <a:pt x="3333" y="596"/>
                  <a:pt x="3136" y="589"/>
                  <a:pt x="3129" y="589"/>
                </a:cubicBezTo>
                <a:cubicBezTo>
                  <a:pt x="3122" y="589"/>
                  <a:pt x="3148" y="589"/>
                  <a:pt x="3175" y="58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Penzijní reforma ČMKOS</a:t>
            </a:r>
            <a:r>
              <a:rPr b="1" lang="cs-CZ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br>
              <a:rPr sz="4000"/>
            </a:b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a její</a:t>
            </a:r>
            <a:r>
              <a:rPr b="1" lang="cs-CZ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porovnání s I. variantou</a:t>
            </a:r>
            <a:r>
              <a:rPr b="0" i="1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Bezděkovy kom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4360" y="2637000"/>
          <a:ext cx="4024080" cy="24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637000"/>
                    <a:ext cx="402408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917720" y="1776240"/>
            <a:ext cx="38512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005360"/>
            <a:ext cx="4321440" cy="266364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růběžně financované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9933"/>
                </a:solidFill>
                <a:latin typeface="Arial"/>
              </a:rPr>
              <a:t>důchodové pojištění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rováděné ČSSZ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33"/>
                </a:solidFill>
                <a:latin typeface="Arial"/>
              </a:rPr>
              <a:t>20% pojistné + 5% D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3357720"/>
            <a:ext cx="4248360" cy="3311280"/>
          </a:xfrm>
          <a:prstGeom prst="rect">
            <a:avLst/>
          </a:prstGeom>
          <a:solidFill>
            <a:srgbClr val="cc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růběžně financované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9933"/>
                </a:solidFill>
                <a:latin typeface="Arial"/>
              </a:rPr>
              <a:t>důchodové pojištění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rováděné ČSSZ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9933"/>
                </a:solidFill>
                <a:latin typeface="Arial"/>
              </a:rPr>
              <a:t>pojistné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9933"/>
                </a:solidFill>
                <a:latin typeface="Arial"/>
              </a:rPr>
              <a:t>28%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3141720"/>
            <a:ext cx="4321440" cy="64764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vinné důch. spoření v nových P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(vedení IÚ: ČSSZ)  pojistné:  3 +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4321440" cy="50472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Dobrovolné spoření v reformovaných PF        (bez podpory stát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16360" y="1916280"/>
            <a:ext cx="4248360" cy="1296720"/>
          </a:xfrm>
          <a:prstGeom prst="rect">
            <a:avLst/>
          </a:prstGeom>
          <a:solidFill>
            <a:srgbClr val="3366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obrovolné důchodové spoření        v reformovaných P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ojistné (1 až 3 % stát) + (3% až 9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716360" y="1341360"/>
            <a:ext cx="4248360" cy="574920"/>
          </a:xfrm>
          <a:prstGeom prst="rect">
            <a:avLst/>
          </a:prstGeom>
          <a:solidFill>
            <a:srgbClr val="993366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Povinné zaměstnanecké důchodové                            spoření v reform. PF (riziková povol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Saldo důchodového systému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(0,I. varianta Bezděkovy komise, ČMK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40800" cy="565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1066680"/>
            <a:ext cx="8924760" cy="56390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Náhradový poměr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Times New Roman"/>
              </a:rPr>
              <a:t>(0,I. varianta Bezděkovy komise, ČMK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Penzijní připojištění vyžaduje refor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692280"/>
          <a:ext cx="9144000" cy="61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914400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ff0000"/>
                </a:solidFill>
                <a:latin typeface="Arial"/>
                <a:ea typeface="Times New Roman"/>
              </a:rPr>
              <a:t>Stárnutí je problémem i pro soukromé důchody</a:t>
            </a:r>
            <a:r>
              <a:rPr b="1" i="1" lang="en-US" sz="3600" spc="-1" strike="noStrike">
                <a:solidFill>
                  <a:srgbClr val="333399"/>
                </a:solidFill>
                <a:latin typeface="Arial"/>
                <a:ea typeface="Times New Roman"/>
              </a:rPr>
              <a:t>    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ena „soukromé“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oživotní penze v měsíční výši 10 000 Kč -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v mil. Kč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1052640"/>
          <a:ext cx="8785440" cy="5544720"/>
        </p:xfrm>
        <a:graphic>
          <a:graphicData uri="http://schemas.openxmlformats.org/drawingml/2006/table">
            <a:tbl>
              <a:tblPr/>
              <a:tblGrid>
                <a:gridCol w="373320"/>
                <a:gridCol w="742680"/>
                <a:gridCol w="595440"/>
                <a:gridCol w="593640"/>
                <a:gridCol w="631800"/>
                <a:gridCol w="647640"/>
                <a:gridCol w="650880"/>
                <a:gridCol w="648000"/>
                <a:gridCol w="652320"/>
                <a:gridCol w="649440"/>
                <a:gridCol w="650880"/>
                <a:gridCol w="649080"/>
                <a:gridCol w="650880"/>
                <a:gridCol w="649440"/>
              </a:tblGrid>
              <a:tr h="618120">
                <a:tc gridSpan="2">
                  <a:txBody>
                    <a:bodyPr lIns="0" rIns="0" tIns="0" bIns="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Věk v ro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8480">
                <a:tc grid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Pojišťov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080"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2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Mu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Ž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80808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60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Mu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990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Ž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3400">
                <a:tc rowSpan="2"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Mu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Arial CE"/>
                          <a:ea typeface="Arial"/>
                        </a:rPr>
                        <a:t>Ž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Arial CE"/>
                          <a:ea typeface="Arial"/>
                        </a:rPr>
                        <a:t>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981000"/>
            <a:ext cx="8785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Dopady krize na individuální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penzijní úspory v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DC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Michael Cic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H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Social Security Department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i="1" lang="fr-CH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Geneva, </a:t>
            </a:r>
            <a:r>
              <a:rPr b="1" i="1" lang="cs-CZ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květen</a:t>
            </a:r>
            <a:r>
              <a:rPr b="1" i="1" lang="fr-CH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0000"/>
                </a:solidFill>
                <a:latin typeface="Arial"/>
              </a:rPr>
              <a:t>Rizika soukromých penzijních systémů</a:t>
            </a:r>
            <a:br>
              <a:rPr sz="3400"/>
            </a:b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Susan Mangiero</a:t>
            </a:r>
            <a:r>
              <a:rPr b="0" i="1" lang="cs-CZ" sz="2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 Investment Governance, Inc</a:t>
            </a:r>
            <a:r>
              <a:rPr b="0" i="1" lang="cs-CZ" sz="28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03280" y="400536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96360" y="5445000"/>
            <a:ext cx="504720" cy="287640"/>
          </a:xfrm>
          <a:prstGeom prst="rightArrow">
            <a:avLst>
              <a:gd name="adj1" fmla="val 50000"/>
              <a:gd name="adj2" fmla="val 438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2:41:59Z</dcterms:created>
  <dc:creator>Customer</dc:creator>
  <dc:description/>
  <dc:language>en-US</dc:language>
  <cp:lastModifiedBy>Customer</cp:lastModifiedBy>
  <dcterms:modified xsi:type="dcterms:W3CDTF">2011-01-10T13:36:10Z</dcterms:modified>
  <cp:revision>6</cp:revision>
  <dc:subject/>
  <dc:title>Penzijní reforma          podle ODS, TOP 09, VV a ČSSD Bezděkova Komise I. a II. varianta</dc:title>
</cp:coreProperties>
</file>