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5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993600" y="732960"/>
            <a:ext cx="487080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230D-D792-46E3-88AB-54EE55500D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9DF7-EA4D-4E76-952C-8893406AA242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49B-0AE6-401B-AF82-6DE98511450E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418-E7FB-4BC3-BAC6-0AD5B7C0503E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4546-A674-4FAF-A3CA-DF77C7575610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3762-B664-448E-A3C3-E0C818430752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8216-EBAB-4EDB-82AD-97DE236A9ACA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F94A-705D-480A-9349-F0028FC98485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9DB5-D460-41A9-B26C-BF4E0EE856F8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FA72-9715-4701-80B6-D6C48DF09A85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8053-8B95-42C1-8D67-5E4869905CCF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5F33-E40C-4976-87C4-CBA53223B4E7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87B2-E078-48ED-A6FE-024A02CDF071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212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BA45-BBE3-407F-9AFC-4ADF4C30DF93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izuální gra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F05-1D3D-456A-BE35-7DF1BBA2D247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870-11FE-4225-8B8C-C46354F7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B73-0786-41C4-89C5-50B167EF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A80-99C1-4210-9795-FE4B223D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4E9-81FA-43CA-B834-1BB9E134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6800-D84A-40E8-846A-65FE16C2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AAA2-672A-4A0D-B09F-1B87F262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6E1E-ECF6-4971-BA56-7EBF6F7A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2F8D-B53F-4DED-931F-1ED037CA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3790-9A84-4849-9C63-1B2F7808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65D7-0F06-44F3-AC65-805938A0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05D6-F86A-4DCE-9287-D18E8AD3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A11-338E-4C08-9CDB-27FCC393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4F3D-5DFC-45EB-8787-23B278D0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0654-8255-46A7-8E2B-36E4DAC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8559-009A-4A8D-97FF-F4EB17F3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C3A7-36B3-49BA-AB26-8F4B4424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C195-591F-401E-A4EB-379CB253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7E9-C8C3-4CE2-AEFF-F55878E7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A42-3952-4274-B158-E8D9E913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B1E-4554-481C-BBBC-378F7AC0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587-584A-435A-BB65-08888EA0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824-BABA-4945-B525-2B3F671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34D-AC87-4C4B-8AD5-5D82E26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DD2-B0C4-48EB-9815-849ED468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2673-893A-4487-83FF-C2F35E3FE0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DB3D-C85E-4B9C-8E4B-75BF4A65CB5B}" type="slidenum">
              <a:rPr b="0" lang="cs-CZ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797b7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66"/>
                </a:solidFill>
                <a:latin typeface="Lucida Casual CE"/>
              </a:rPr>
              <a:t>      </a:t>
            </a:r>
            <a:r>
              <a:rPr b="0" lang="cs-CZ" sz="3200" spc="-1" strike="noStrike">
                <a:solidFill>
                  <a:srgbClr val="660066"/>
                </a:solidFill>
                <a:latin typeface="Lucida Casual CE"/>
              </a:rPr>
              <a:t>Prosazování rovných příležitostí žen a mužů v rezortu Ministerstva obrany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80880" y="372852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Rada vlády pro rovné příležitosti žen a mužů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29. května 2012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99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cc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Počty mužů a žen zařazených v dispozici dle zákona o vojácích z povolání § 10 – MD, R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0" y="1676520"/>
          <a:ext cx="8915400" cy="46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89154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45472"/>
                </a:solidFill>
                <a:latin typeface="Arial CE"/>
              </a:rPr>
              <a:t>Obsazenost vedoucích systemizovaných míst VZP - AČR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0" y="1600200"/>
          <a:ext cx="91440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2"/>
          <p:cNvGraphicFramePr/>
          <p:nvPr/>
        </p:nvGraphicFramePr>
        <p:xfrm>
          <a:off x="0" y="380880"/>
          <a:ext cx="91440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1026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545472"/>
                </a:solidFill>
                <a:latin typeface="Tahoma"/>
              </a:rPr>
              <a:t>Zahraniční mírové operace</a:t>
            </a:r>
            <a:r>
              <a:rPr b="0" lang="cs-CZ" sz="4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8" name="Object 1032"/>
          <p:cNvGraphicFramePr/>
          <p:nvPr/>
        </p:nvGraphicFramePr>
        <p:xfrm>
          <a:off x="247680" y="1714680"/>
          <a:ext cx="847728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714680"/>
                    <a:ext cx="847728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9595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Rozdíl v průměrném platu žen a mužů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91" name="Object 4"/>
          <p:cNvGraphicFramePr/>
          <p:nvPr/>
        </p:nvGraphicFramePr>
        <p:xfrm>
          <a:off x="228600" y="1523880"/>
          <a:ext cx="83059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305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5"/>
          <p:cNvGraphicFramePr/>
          <p:nvPr/>
        </p:nvGraphicFramePr>
        <p:xfrm>
          <a:off x="0" y="2185920"/>
          <a:ext cx="9144000" cy="4291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85920"/>
                    <a:ext cx="914400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Jaké další úkoly nás čekají ?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618320" cy="1147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7c7d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66"/>
                </a:solidFill>
                <a:latin typeface="Tahoma"/>
              </a:rPr>
              <a:t>Rezortní opatření k prosazování rovného přístupu k ženám a mužům</a:t>
            </a: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72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7c7df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vnitřní předpis - rozkaz MO č. 29/2002  „Prosazování rovnosti mužů a žen v působnosti MO“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dokument „Priority a postupy resortu MO při prosazování principu rovných příležitostí mužů a žen“ – každoročně aktualizován v souladu s příslušným usnesením vlády (programový dokument vlády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služební pomůcka „Rovné zacházení s muži a ženami“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545472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Programové cíle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39625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genderová kvantitativní analýza </a:t>
            </a:r>
            <a:br>
              <a:rPr sz="3200"/>
            </a:b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postoje vojenských profesionálů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a profesionálek</a:t>
            </a:r>
            <a:r>
              <a:rPr b="0" lang="cs-CZ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c7c7d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íl zaměstnaných žen (služební/pracovní poměr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69056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1" name="Object 10"/>
          <p:cNvGraphicFramePr/>
          <p:nvPr/>
        </p:nvGraphicFramePr>
        <p:xfrm>
          <a:off x="0" y="1619280"/>
          <a:ext cx="9182160" cy="523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19280"/>
                    <a:ext cx="91821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96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45472"/>
                </a:solidFill>
                <a:latin typeface="Arial CE"/>
              </a:rPr>
              <a:t>Vývoj počtů vojákyň od roku 1999</a:t>
            </a:r>
            <a:br>
              <a:rPr sz="2400"/>
            </a:br>
            <a:r>
              <a:rPr b="1" lang="cs-CZ" sz="2400" spc="-1" strike="noStrike">
                <a:solidFill>
                  <a:srgbClr val="545472"/>
                </a:solidFill>
                <a:latin typeface="Arial CE"/>
              </a:rPr>
              <a:t> (k 1.1. ; 15. 1. )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10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325080"/>
            <a:ext cx="8610480" cy="74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9797b7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66"/>
                </a:solidFill>
                <a:latin typeface="Tahoma"/>
              </a:rPr>
              <a:t>A jak se daří ženám při výběru/náboru do AČR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7" name="Object 20"/>
          <p:cNvGraphicFramePr/>
          <p:nvPr/>
        </p:nvGraphicFramePr>
        <p:xfrm>
          <a:off x="0" y="1523880"/>
          <a:ext cx="5310360" cy="3019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531036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21"/>
          <p:cNvGraphicFramePr/>
          <p:nvPr/>
        </p:nvGraphicFramePr>
        <p:xfrm>
          <a:off x="4267080" y="3886200"/>
          <a:ext cx="4267440" cy="2971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0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3886200"/>
                    <a:ext cx="4267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c7c7d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S t u d u j í c í   -  vojenské škol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343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2343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343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65" name="Object 39"/>
          <p:cNvGraphicFramePr/>
          <p:nvPr/>
        </p:nvGraphicFramePr>
        <p:xfrm>
          <a:off x="0" y="1447920"/>
          <a:ext cx="9144000" cy="487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91440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487080"/>
            <a:ext cx="86374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odíly studujících SŠ – srovnání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49092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69" name="Object 10"/>
          <p:cNvGraphicFramePr/>
          <p:nvPr/>
        </p:nvGraphicFramePr>
        <p:xfrm>
          <a:off x="0" y="1165320"/>
          <a:ext cx="4191120" cy="241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65320"/>
                    <a:ext cx="419112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32958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72" name="Object 12"/>
          <p:cNvGraphicFramePr/>
          <p:nvPr/>
        </p:nvGraphicFramePr>
        <p:xfrm>
          <a:off x="3295800" y="2610000"/>
          <a:ext cx="5086080" cy="3263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3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5800" y="2610000"/>
                    <a:ext cx="508608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27"/>
          <p:cNvSpPr/>
          <p:nvPr/>
        </p:nvSpPr>
        <p:spPr>
          <a:xfrm>
            <a:off x="28335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75" name="Object 1026"/>
          <p:cNvGraphicFramePr/>
          <p:nvPr/>
        </p:nvGraphicFramePr>
        <p:xfrm>
          <a:off x="1219320" y="685800"/>
          <a:ext cx="739116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73911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12:32Z</dcterms:created>
  <dc:creator>jonitova</dc:creator>
  <dc:description/>
  <dc:language>en-US</dc:language>
  <cp:lastModifiedBy>Lucia Zachariášová JUDr.</cp:lastModifiedBy>
  <cp:lastPrinted>2000-05-22T08:02:26Z</cp:lastPrinted>
  <dcterms:modified xsi:type="dcterms:W3CDTF">2012-05-29T06:57:32Z</dcterms:modified>
  <cp:revision>240</cp:revision>
  <dc:subject/>
  <dc:title>Vnímání rovnosti  vojáky a vojákyněmi  Armády České republiky</dc:title>
</cp:coreProperties>
</file>